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315200" cy="9601200"/>
  <p:custShowLst>
    <p:custShow name="20 min overview" id="0">
      <p:sldLst>
        <p:sld r:id="rId4"/>
      </p:sldLst>
    </p:custShow>
    <p:custShow name="Sales Presentation" id="1">
      <p:sldLst>
        <p:sld r:id="rId4"/>
        <p:sld r:id="rId6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920" cy="15048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260120" y="493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RI Internat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Bioinforma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920" cy="1504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393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800" indent="12600" algn="ctr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136520" indent="12960" algn="ctr">
              <a:spcBef>
                <a:spcPts val="499"/>
              </a:spcBef>
              <a:buClr>
                <a:srgbClr val="ffcc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479600" indent="12600" algn="ctr">
              <a:spcBef>
                <a:spcPts val="499"/>
              </a:spcBef>
              <a:buClr>
                <a:srgbClr val="ffcc66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nternational-lisp-conference.org/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New Developments in the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and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EcoCyc Database</a:t>
            </a: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eter D. Karp, Ph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karp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uman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1523880"/>
            <a:ext cx="3962520" cy="4343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5181480"/>
            <a:ext cx="1371600" cy="459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romosom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sm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24400" y="4267080"/>
            <a:ext cx="648720" cy="276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6040" y="3429000"/>
            <a:ext cx="792000" cy="276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809880"/>
            <a:ext cx="0" cy="3812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464832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48080" y="2590920"/>
            <a:ext cx="910800" cy="276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47720" y="1752480"/>
            <a:ext cx="886320" cy="276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98520" y="2590920"/>
            <a:ext cx="1069200" cy="276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ou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13372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743200"/>
            <a:ext cx="38088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20800" y="6019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97800" y="4114800"/>
            <a:ext cx="1527840" cy="641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er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moter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NA Binding Si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4419720"/>
            <a:ext cx="38088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581280"/>
            <a:ext cx="304920" cy="3049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3657600"/>
            <a:ext cx="2286000" cy="12193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657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hway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600" y="1523880"/>
            <a:ext cx="2438280" cy="1295280"/>
            <a:chOff x="3657600" y="1523880"/>
            <a:chExt cx="2438280" cy="1295280"/>
          </a:xfrm>
        </p:grpSpPr>
        <p:sp>
          <p:nvSpPr>
            <p:cNvPr id="128" name=""/>
            <p:cNvSpPr/>
            <p:nvPr/>
          </p:nvSpPr>
          <p:spPr>
            <a:xfrm>
              <a:off x="3722760" y="1523880"/>
              <a:ext cx="2361960" cy="1295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7600" y="177948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thway/Geno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viga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3809880"/>
            <a:ext cx="152532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3894120"/>
            <a:ext cx="1676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hoLogic Pathway Predic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3733920"/>
            <a:ext cx="1411200" cy="12556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46960" y="4206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3894120"/>
            <a:ext cx="16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hway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2895480"/>
            <a:ext cx="0" cy="60984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590560" y="4267080"/>
            <a:ext cx="106668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4267080"/>
            <a:ext cx="83844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Modes of Us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jority of MOD services provided by Pathway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 Tools provides a pathway module as an add-on to existing MO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creation of new Pathway/Genome Datab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forms genome into Pathway Tools schema and layers inferred information about the geno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oper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pathway hole fill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58960" y="63244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Edito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 interactive updating of PGDBs with graphical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 geographically distributed teams of curators with object database syste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tei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ound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per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ublica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2156040" cy="232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3429000" cy="2522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43760" y="2743200"/>
            <a:ext cx="300024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Navigato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erying, visualization of pathways, chromosomes, oper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alysis oper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arative genomic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WW publishing of PGDB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sktop oper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42120" y="0"/>
            <a:ext cx="2801880" cy="2324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952880" y="2341440"/>
            <a:ext cx="297180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Bs Created b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xternal Use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50 groups applying the software to more than 80 organisms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Software freely available to academics; Each PGDB owned by its creator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accharomyces cerevisiae, SGD project, Stanford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athway.yeastgenome.org/biocyc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TAIR, Carnegie Institution of Washington       Arabidopsis.org:1555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Planned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GD  (Candida albicans), Stanford Universit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MGD (Mouse), Jackson Laborator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RGD (Rat), Medical College of Wisconsin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WormBase (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elegan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), Caltech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DOE Genomes to Life contracto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Church, Harvard, Prochlorococcus marinus MED4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E. Kolker, BIATECH, Shewanella onedens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J. Keasling, UC Berkeley, Desulfovibrio vulgar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Plasmodium falciparum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, Stanford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lasmocyc.stanford.edu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Fiona Brinkman, Simon Fraser Univ, 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Pseudomonas aeruginosa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Methanococcus janaschii</a:t>
            </a: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, EBI    maine.ebi.ac.uk:1555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puting with th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Metabolic Network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analysis of metabolic network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isualization of 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rrelation of metabolism and trans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nectivity analysis of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ward propagation of metabolit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erification of known growth media with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(Future) Infer growth-media require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Implementation Detail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latform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n, PC/Linux, and PC/Windows platform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ame binary can run as desktop app or Web serv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duction-quality softwar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ersion contro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wo regular releases per ye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tensive quality assuranc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tensive document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uto-patc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utomatic DB-upgra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300,000 lines of cod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Architectu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0" name=""/>
          <p:cNvSpPr/>
          <p:nvPr/>
        </p:nvSpPr>
        <p:spPr>
          <a:xfrm>
            <a:off x="3811320" y="57913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bject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486400"/>
            <a:ext cx="3124080" cy="10666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62520" y="3733920"/>
            <a:ext cx="1676160" cy="459720"/>
            <a:chOff x="3962520" y="3733920"/>
            <a:chExt cx="1676160" cy="459720"/>
          </a:xfrm>
        </p:grpSpPr>
        <p:sp>
          <p:nvSpPr>
            <p:cNvPr id="163" name=""/>
            <p:cNvSpPr/>
            <p:nvPr/>
          </p:nvSpPr>
          <p:spPr>
            <a:xfrm>
              <a:off x="3963240" y="37339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GFP AP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62520" y="3733920"/>
              <a:ext cx="1676160" cy="45720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964680" y="121932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ath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en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vig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143000"/>
            <a:ext cx="1981440" cy="13716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23880" y="1447920"/>
            <a:ext cx="1219320" cy="838080"/>
            <a:chOff x="1523880" y="1447920"/>
            <a:chExt cx="1219320" cy="838080"/>
          </a:xfrm>
        </p:grpSpPr>
        <p:sp>
          <p:nvSpPr>
            <p:cNvPr id="168" name=""/>
            <p:cNvSpPr/>
            <p:nvPr/>
          </p:nvSpPr>
          <p:spPr>
            <a:xfrm>
              <a:off x="1603440" y="1447920"/>
              <a:ext cx="112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WW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3880" y="1447920"/>
              <a:ext cx="1219320" cy="83808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781680" y="1447920"/>
            <a:ext cx="1828800" cy="838080"/>
            <a:chOff x="6781680" y="1447920"/>
            <a:chExt cx="1828800" cy="838080"/>
          </a:xfrm>
        </p:grpSpPr>
        <p:sp>
          <p:nvSpPr>
            <p:cNvPr id="171" name=""/>
            <p:cNvSpPr/>
            <p:nvPr/>
          </p:nvSpPr>
          <p:spPr>
            <a:xfrm>
              <a:off x="6781680" y="1447920"/>
              <a:ext cx="182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X-Window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1680" y="1447920"/>
              <a:ext cx="1828800" cy="83808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943600" y="18288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82880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27432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4197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632640" y="3352680"/>
            <a:ext cx="2510280" cy="1219320"/>
            <a:chOff x="6632640" y="3352680"/>
            <a:chExt cx="2510280" cy="1219320"/>
          </a:xfrm>
        </p:grpSpPr>
        <p:sp>
          <p:nvSpPr>
            <p:cNvPr id="178" name=""/>
            <p:cNvSpPr/>
            <p:nvPr/>
          </p:nvSpPr>
          <p:spPr>
            <a:xfrm>
              <a:off x="6709680" y="3352680"/>
              <a:ext cx="243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Object Edi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Pathway Edi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Reaction Edi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32640" y="3352680"/>
              <a:ext cx="2439000" cy="121932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545240" y="5715000"/>
            <a:ext cx="1130040" cy="533520"/>
            <a:chOff x="7545240" y="5715000"/>
            <a:chExt cx="1130040" cy="533520"/>
          </a:xfrm>
        </p:grpSpPr>
        <p:sp>
          <p:nvSpPr>
            <p:cNvPr id="181" name=""/>
            <p:cNvSpPr/>
            <p:nvPr/>
          </p:nvSpPr>
          <p:spPr>
            <a:xfrm>
              <a:off x="7545240" y="5754960"/>
              <a:ext cx="113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Orac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59640" y="5715000"/>
              <a:ext cx="1066680" cy="53352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715000" y="388620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86728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081560" cy="645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SRI International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016440" cy="3818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Private nonprofit research institute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No permanent funding sources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1200 staff in Menlo Park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Multidisciplinary</a:t>
            </a: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9880" y="5267160"/>
            <a:ext cx="7248600" cy="13748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9040" y="5267160"/>
            <a:ext cx="755496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t">
            <a:spAutoFit/>
          </a:bodyPr>
          <a:p>
            <a:pPr lvl="1" marL="4572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ounded in 1946 as Stanford Research Institu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eparated from Stanford University in 19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me changed to SRI International in 197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David Sarnoff Research Center acquired in 198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80060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celot Knowledge Server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rchitectu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rame data mod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asses, instances, inheritan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rames have slots that define their properties, attributes, relationship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slot has one or more valu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atatypes include numbers, strings, etc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action logging fac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lot units define metadata about slot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main, range, inver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llection type, number of values, value constrai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celot Storage System Architectu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ersistent storage via disk files, Oracle DBM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current development: Oracl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ngle-user development: disk fil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racle storag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racle is submerged within Ocelot, invisible to us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rames transferred from DBMS to Ocelo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 demand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y background prefetcher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mory cach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ersistent disk cache to speed performance via Interne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ransaction logging facil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The Common Lisp Programming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nvironmen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819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att studied Lisp and Java implementation of 16 programs by 14 programmers (Intelligence 11:21 2000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440240" y="838080"/>
            <a:ext cx="4249800" cy="601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eter Norvig’s Solu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 wrote my version in Lisp. It took me about 2 hours (compared to a range of 2-8.5 hours for the other Lisp programmers in the study, 3-25 for C/C++ and 4-63 for Java) and I ended up with 45 non-comment non-blank lines (compared with a range of 51-182 for Lisp, and 107-614 for the other languages). (That means that some Java programmer was spending 13 lines and 84 minutes to provide the functionality of each line of my Lisp program.)”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://www.norvig.com/java-lisp.htm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mon Lisp Programming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nvironmen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preted and/or compiled execu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abulous debugging environ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gh-level langu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active data explo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tensive built-in librari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ynamic redefini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out more!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e  ALU.org  or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  <a:hlinkClick r:id="rId1"/>
              </a:rPr>
              <a:t>http://www.international-lisp-conference.org/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oLogic Processing of a Genom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PathoLogic Inference of Metabolic Pathways</a:t>
            </a:r>
            <a:endParaRPr b="1" i="1" lang="en-US" sz="28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99" name=""/>
          <p:cNvSpPr/>
          <p:nvPr/>
        </p:nvSpPr>
        <p:spPr>
          <a:xfrm>
            <a:off x="6397560" y="1116000"/>
            <a:ext cx="23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thway/Gen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69760" y="1050840"/>
            <a:ext cx="236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Annotated Genom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14400" y="1752480"/>
            <a:ext cx="2286000" cy="2057400"/>
            <a:chOff x="914400" y="1752480"/>
            <a:chExt cx="2286000" cy="2057400"/>
          </a:xfrm>
        </p:grpSpPr>
        <p:sp>
          <p:nvSpPr>
            <p:cNvPr id="202" name=""/>
            <p:cNvSpPr/>
            <p:nvPr/>
          </p:nvSpPr>
          <p:spPr>
            <a:xfrm>
              <a:off x="1426680" y="2624040"/>
              <a:ext cx="1271880" cy="337320"/>
            </a:xfrm>
            <a:prstGeom prst="rect">
              <a:avLst/>
            </a:prstGeom>
            <a:noFill/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Genes/ORF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20480" y="1862280"/>
              <a:ext cx="1458000" cy="337320"/>
            </a:xfrm>
            <a:prstGeom prst="rect">
              <a:avLst/>
            </a:prstGeom>
            <a:noFill/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Gene Produ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1752480"/>
              <a:ext cx="2286000" cy="2057400"/>
            </a:xfrm>
            <a:prstGeom prst="rect">
              <a:avLst/>
            </a:prstGeom>
            <a:noFill/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57400" y="2209680"/>
              <a:ext cx="0" cy="41112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2971800"/>
              <a:ext cx="0" cy="41112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19320" y="3386160"/>
              <a:ext cx="1676160" cy="337320"/>
            </a:xfrm>
            <a:prstGeom prst="rect">
              <a:avLst/>
            </a:prstGeom>
            <a:noFill/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NA Sequen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914400" y="4724280"/>
            <a:ext cx="2286000" cy="1981440"/>
            <a:chOff x="914400" y="4724280"/>
            <a:chExt cx="2286000" cy="1981440"/>
          </a:xfrm>
        </p:grpSpPr>
        <p:sp>
          <p:nvSpPr>
            <p:cNvPr id="209" name=""/>
            <p:cNvSpPr/>
            <p:nvPr/>
          </p:nvSpPr>
          <p:spPr>
            <a:xfrm>
              <a:off x="1447920" y="5510160"/>
              <a:ext cx="1143000" cy="337320"/>
            </a:xfrm>
            <a:prstGeom prst="rect">
              <a:avLst/>
            </a:prstGeom>
            <a:noFill/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a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44760" y="4794120"/>
              <a:ext cx="1015920" cy="337320"/>
            </a:xfrm>
            <a:prstGeom prst="rect">
              <a:avLst/>
            </a:prstGeom>
            <a:noFill/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thway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14400" y="4724280"/>
              <a:ext cx="2286000" cy="1981440"/>
            </a:xfrm>
            <a:prstGeom prst="rect">
              <a:avLst/>
            </a:prstGeom>
            <a:noFill/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5097600"/>
              <a:ext cx="0" cy="411120"/>
            </a:xfrm>
            <a:prstGeom prst="line">
              <a:avLst/>
            </a:prstGeom>
            <a:ln w="12600">
              <a:solidFill>
                <a:srgbClr val="33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7400" y="5859360"/>
              <a:ext cx="0" cy="411120"/>
            </a:xfrm>
            <a:prstGeom prst="line">
              <a:avLst/>
            </a:prstGeom>
            <a:ln w="12600">
              <a:solidFill>
                <a:srgbClr val="33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6280" y="6264360"/>
              <a:ext cx="1366920" cy="337320"/>
            </a:xfrm>
            <a:prstGeom prst="rect">
              <a:avLst/>
            </a:prstGeom>
            <a:noFill/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mpoun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33520" y="403056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Multi-organism Path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Database (MetaCy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65520" y="3263760"/>
            <a:ext cx="2274840" cy="1804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thoLogic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tegrates genome and pathway data to identify putative metabolic networ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094360"/>
            <a:ext cx="1063800" cy="750960"/>
          </a:xfrm>
          <a:custGeom>
            <a:avLst/>
            <a:gdLst>
              <a:gd name="textAreaLeft" fmla="*/ 222480 w 1063800"/>
              <a:gd name="textAreaRight" fmla="*/ 985320 w 1063800"/>
              <a:gd name="textAreaTop" fmla="*/ 586800 h 750960"/>
              <a:gd name="textAreaBottom" fmla="*/ 695520 h 750960"/>
            </a:gdLst>
            <a:ahLst/>
            <a:rect l="textAreaLeft" t="textAreaTop" r="textAreaRight" b="textAreaBottom"/>
            <a:pathLst>
              <a:path w="21600" h="21600">
                <a:moveTo>
                  <a:pt x="0" y="18469"/>
                </a:moveTo>
                <a:lnTo>
                  <a:pt x="16875" y="18469"/>
                </a:lnTo>
                <a:lnTo>
                  <a:pt x="16875" y="4518"/>
                </a:lnTo>
                <a:lnTo>
                  <a:pt x="15281" y="4518"/>
                </a:lnTo>
                <a:lnTo>
                  <a:pt x="18441" y="0"/>
                </a:lnTo>
                <a:lnTo>
                  <a:pt x="21600" y="4518"/>
                </a:lnTo>
                <a:lnTo>
                  <a:pt x="20006" y="4518"/>
                </a:lnTo>
                <a:lnTo>
                  <a:pt x="200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200400" y="2514600"/>
            <a:ext cx="1063800" cy="750960"/>
          </a:xfrm>
          <a:custGeom>
            <a:avLst/>
            <a:gdLst>
              <a:gd name="textAreaLeft" fmla="*/ 222480 w 1063800"/>
              <a:gd name="textAreaRight" fmla="*/ 985320 w 1063800"/>
              <a:gd name="textAreaTop" fmla="*/ 586800 h 750960"/>
              <a:gd name="textAreaBottom" fmla="*/ 695520 h 750960"/>
            </a:gdLst>
            <a:ahLst/>
            <a:rect l="textAreaLeft" t="textAreaTop" r="textAreaRight" b="textAreaBottom"/>
            <a:pathLst>
              <a:path w="21600" h="21600">
                <a:moveTo>
                  <a:pt x="0" y="18469"/>
                </a:moveTo>
                <a:lnTo>
                  <a:pt x="16875" y="18469"/>
                </a:lnTo>
                <a:lnTo>
                  <a:pt x="16875" y="4518"/>
                </a:lnTo>
                <a:lnTo>
                  <a:pt x="15281" y="4518"/>
                </a:lnTo>
                <a:lnTo>
                  <a:pt x="18441" y="0"/>
                </a:lnTo>
                <a:lnTo>
                  <a:pt x="21600" y="4518"/>
                </a:lnTo>
                <a:lnTo>
                  <a:pt x="20006" y="4518"/>
                </a:lnTo>
                <a:lnTo>
                  <a:pt x="200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4038480"/>
            <a:ext cx="457200" cy="327240"/>
          </a:xfrm>
          <a:prstGeom prst="rightArrow">
            <a:avLst>
              <a:gd name="adj1" fmla="val 50000"/>
              <a:gd name="adj2" fmla="val 34928"/>
            </a:avLst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97560" y="1817640"/>
            <a:ext cx="2286000" cy="4707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2320" y="6008760"/>
            <a:ext cx="1535040" cy="337320"/>
          </a:xfrm>
          <a:prstGeom prst="rect">
            <a:avLst/>
          </a:prstGeom>
          <a:noFill/>
          <a:ln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enomic M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3360" y="5251320"/>
            <a:ext cx="914400" cy="337320"/>
          </a:xfrm>
          <a:prstGeom prst="rect">
            <a:avLst/>
          </a:prstGeom>
          <a:noFill/>
          <a:ln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64400" y="4484520"/>
            <a:ext cx="1552680" cy="337320"/>
          </a:xfrm>
          <a:prstGeom prst="rect">
            <a:avLst/>
          </a:prstGeom>
          <a:noFill/>
          <a:ln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ene Produ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26160" y="4408560"/>
            <a:ext cx="1828800" cy="2057400"/>
          </a:xfrm>
          <a:prstGeom prst="rect">
            <a:avLst/>
          </a:prstGeom>
          <a:noFill/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07400" y="2732040"/>
            <a:ext cx="1098360" cy="337320"/>
          </a:xfrm>
          <a:prstGeom prst="rect">
            <a:avLst/>
          </a:prstGeom>
          <a:noFill/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37280" y="1971720"/>
            <a:ext cx="1015920" cy="337320"/>
          </a:xfrm>
          <a:prstGeom prst="rect">
            <a:avLst/>
          </a:prstGeom>
          <a:noFill/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hw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9440" y="3494160"/>
            <a:ext cx="1366920" cy="337320"/>
          </a:xfrm>
          <a:prstGeom prst="rect">
            <a:avLst/>
          </a:prstGeom>
          <a:noFill/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pou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0560" y="2320920"/>
            <a:ext cx="0" cy="4111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26160" y="1893960"/>
            <a:ext cx="1828800" cy="2057400"/>
          </a:xfrm>
          <a:prstGeom prst="rect">
            <a:avLst/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40560" y="3083040"/>
            <a:ext cx="1800" cy="4111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553080" y="4626000"/>
            <a:ext cx="216000" cy="223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550200" y="2883960"/>
            <a:ext cx="0" cy="1752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0200" y="288432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40560" y="5597640"/>
            <a:ext cx="0" cy="411120"/>
          </a:xfrm>
          <a:prstGeom prst="line">
            <a:avLst/>
          </a:prstGeom>
          <a:ln w="1260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0560" y="4835520"/>
            <a:ext cx="0" cy="411120"/>
          </a:xfrm>
          <a:prstGeom prst="line">
            <a:avLst/>
          </a:prstGeom>
          <a:ln w="12600">
            <a:solidFill>
              <a:srgbClr val="ff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oLogic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redict Metabolic Pathway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utationally match enzymes in source genome to the MetaCyc reactions that they catalyz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tch enzyme names and EC numbers to MetaCyc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pport user in manually matching additional enzym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utationally predict which MetaCyc metabolic pathways are present in the organis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mport MetaCyc pathways based on fraction of enzymes present, and presence of enzymes unique to that pathwa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rate report of predicted pathways and the supporting evidence; mark predicted pathways with computational evidence cod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rate metabolic overview diagra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HumanCyc Resul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2709 enzymes identified in the human genome (9.5%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653 metabolic enzyme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lus 203 pathway holes -&gt; 6.5% of geno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622 of metabolic enzymes assigned to a metabolic pathwa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135 predicted metabolic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203 pathway holes present in 99 pathway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88 candidate hole fillers found, of which 25 appear sol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verage pathway length: 5.4 reaction step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428 of 896 reactions have multiple isozym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PathoLogic Step 3: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Identify Pathway Hole Fillers</a:t>
            </a:r>
            <a:endParaRPr b="1" i="1" lang="en-US" sz="28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12952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finition: Pathway Holes are reactions in metabolic pathways for which no enzyme is identif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73600" y="3679920"/>
            <a:ext cx="857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ho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6560" y="2647800"/>
            <a:ext cx="179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L-aspart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60640" y="2630520"/>
            <a:ext cx="216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iminoaspart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3110040"/>
            <a:ext cx="1795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quinolin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48480" y="4616280"/>
            <a:ext cx="1481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icotinate nucleotid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52560" y="4433760"/>
            <a:ext cx="216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deamido-NA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2040" y="5767560"/>
            <a:ext cx="971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A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0880" y="2855880"/>
            <a:ext cx="104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48240" y="2843280"/>
            <a:ext cx="1420920" cy="301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12040" y="3532320"/>
            <a:ext cx="0" cy="90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4216320" y="4675320"/>
            <a:ext cx="1687680" cy="264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72640" y="4586400"/>
            <a:ext cx="1797120" cy="1113840"/>
            <a:chOff x="872640" y="4586400"/>
            <a:chExt cx="1797120" cy="1113840"/>
          </a:xfrm>
        </p:grpSpPr>
        <p:sp>
          <p:nvSpPr>
            <p:cNvPr id="254" name=""/>
            <p:cNvSpPr/>
            <p:nvPr/>
          </p:nvSpPr>
          <p:spPr>
            <a:xfrm flipH="1">
              <a:off x="1247400" y="4586400"/>
              <a:ext cx="142236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872640" y="4865760"/>
              <a:ext cx="374760" cy="834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238040" y="4871880"/>
            <a:ext cx="1777680" cy="1035000"/>
            <a:chOff x="1238040" y="4871880"/>
            <a:chExt cx="1777680" cy="1035000"/>
          </a:xfrm>
        </p:grpSpPr>
        <p:sp>
          <p:nvSpPr>
            <p:cNvPr id="257" name=""/>
            <p:cNvSpPr/>
            <p:nvPr/>
          </p:nvSpPr>
          <p:spPr>
            <a:xfrm flipH="1">
              <a:off x="2349720" y="4871880"/>
              <a:ext cx="666000" cy="77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238040" y="5647320"/>
              <a:ext cx="1111320" cy="259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820880" y="2438280"/>
            <a:ext cx="1046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Comic Sans MS"/>
              </a:rPr>
              <a:t>1.4.3</a:t>
            </a: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.-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4680" y="4973760"/>
            <a:ext cx="119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Comic Sans MS"/>
              </a:rPr>
              <a:t>2.7.7.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3680" y="2451240"/>
            <a:ext cx="25225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quinolinate synthetas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nad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43640" y="3780000"/>
            <a:ext cx="27003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n.n. pyrophosphorylas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nad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798720"/>
            <a:ext cx="33670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NAD+ synthetase, NH3 -dependen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CC36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5562720"/>
            <a:ext cx="1197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Comic Sans MS"/>
              </a:rPr>
              <a:t>6.3.5.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803680" y="3893760"/>
            <a:ext cx="1049040" cy="148428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338360" y="4033800"/>
            <a:ext cx="623880" cy="70488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73200" y="2954160"/>
            <a:ext cx="1524240" cy="75276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286000"/>
            <a:ext cx="99072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5410080"/>
            <a:ext cx="990720" cy="6098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800600"/>
            <a:ext cx="990720" cy="6094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SRI Organiza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066680"/>
            <a:ext cx="2782800" cy="13338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tion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uting Scie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2514600"/>
            <a:ext cx="2959200" cy="1422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gineering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Scie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83040" y="4478400"/>
            <a:ext cx="2554560" cy="14731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76600" y="2887560"/>
            <a:ext cx="1701720" cy="113184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514600"/>
            <a:ext cx="2959200" cy="142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oScie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495680"/>
            <a:ext cx="2670120" cy="145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duc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flipV="1">
            <a:off x="3760920" y="1041480"/>
            <a:ext cx="1877760" cy="898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68840" y="1213920"/>
            <a:ext cx="1869840" cy="1087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49760" y="4121280"/>
            <a:ext cx="1859040" cy="1828800"/>
          </a:xfrm>
          <a:prstGeom prst="line">
            <a:avLst/>
          </a:prstGeom>
          <a:ln w="9360">
            <a:solidFill>
              <a:srgbClr val="00ffff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74960" y="3790800"/>
            <a:ext cx="1846440" cy="1963800"/>
          </a:xfrm>
          <a:prstGeom prst="line">
            <a:avLst/>
          </a:prstGeom>
          <a:ln w="9360">
            <a:solidFill>
              <a:srgbClr val="00ffff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741840" y="1428480"/>
            <a:ext cx="1896840" cy="1243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67040" y="2317680"/>
            <a:ext cx="1860480" cy="73188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49760" y="2662200"/>
            <a:ext cx="1877760" cy="5587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57680" y="3052800"/>
            <a:ext cx="1868400" cy="3571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60920" y="3409920"/>
            <a:ext cx="1865160" cy="1713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763800" y="3762000"/>
            <a:ext cx="1862280" cy="126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754440" y="3944520"/>
            <a:ext cx="1865160" cy="1746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767040" y="4144680"/>
            <a:ext cx="1859040" cy="3776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0920" y="1905120"/>
            <a:ext cx="9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273400"/>
            <a:ext cx="84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2637000"/>
            <a:ext cx="1047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006720"/>
            <a:ext cx="11667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3373560"/>
            <a:ext cx="102528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3740040"/>
            <a:ext cx="85248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4105440"/>
            <a:ext cx="9651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4475160"/>
            <a:ext cx="10382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175248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organism 1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enzyme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211608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organism 2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enzyme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3218040"/>
            <a:ext cx="2112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organism 5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enzyme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8526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organism 4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enzyme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248292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organism 3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enzyme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6080" y="4317840"/>
            <a:ext cx="21128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organism 8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enzyme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6080" y="395136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organism 7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enzyme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6080" y="3587760"/>
            <a:ext cx="2112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Arial"/>
              </a:rPr>
              <a:t>organism 6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enzyme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304920"/>
            <a:ext cx="246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ep 1: collect query isozymes of function A based on EC#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380880"/>
            <a:ext cx="154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tep 2: BLAST against target genom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23120" y="990720"/>
            <a:ext cx="272088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Arial"/>
              </a:rPr>
              <a:t>Step 3 &amp; 4: Consolidate hits and evaluate evidenc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81840" y="2971800"/>
            <a:ext cx="3062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0099"/>
                </a:solidFill>
                <a:latin typeface="Arial"/>
              </a:rPr>
              <a:t>7 queries have high-scoring hits to sequence 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5424120" y="3373560"/>
            <a:ext cx="94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0080"/>
                </a:solidFill>
                <a:latin typeface="Arial"/>
              </a:rPr>
              <a:t>gene 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84760" y="492120"/>
            <a:ext cx="1800" cy="6019920"/>
          </a:xfrm>
          <a:prstGeom prst="line">
            <a:avLst/>
          </a:prstGeom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684760" y="5335200"/>
            <a:ext cx="1800" cy="1012680"/>
          </a:xfrm>
          <a:prstGeom prst="line">
            <a:avLst/>
          </a:prstGeom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684760" y="2936880"/>
            <a:ext cx="1800" cy="11844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5361120" y="1130400"/>
            <a:ext cx="106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gene 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695920" y="603000"/>
            <a:ext cx="1440" cy="101268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5424120" y="5678640"/>
            <a:ext cx="94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ff"/>
                </a:solidFill>
                <a:latin typeface="Arial"/>
              </a:rPr>
              <a:t>gene Z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8120160" cy="7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Bayes Classifier </a:t>
            </a:r>
            <a:endParaRPr b="1" i="1" lang="en-US" sz="28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1" name=""/>
          <p:cNvSpPr/>
          <p:nvPr/>
        </p:nvSpPr>
        <p:spPr>
          <a:xfrm>
            <a:off x="1387080" y="1292400"/>
            <a:ext cx="606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(protein has function X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-value, avg. rank, aln. length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83000" y="2662200"/>
            <a:ext cx="1947960" cy="717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protein has function 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5029200"/>
            <a:ext cx="1985760" cy="6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% of query alig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3480" y="4081320"/>
            <a:ext cx="1898640" cy="6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vg. rank in BLAST 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720" y="2952720"/>
            <a:ext cx="1617840" cy="6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-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916280" y="2993760"/>
            <a:ext cx="1652400" cy="1270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109960" y="3309480"/>
            <a:ext cx="1725480" cy="7873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5409720" y="2947680"/>
            <a:ext cx="1227240" cy="3301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9240" y="4857840"/>
            <a:ext cx="1771560" cy="6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umber of qu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228480" y="3427560"/>
            <a:ext cx="979560" cy="1423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3124080"/>
            <a:ext cx="1617480" cy="6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wy direc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34000" y="4368960"/>
            <a:ext cx="1617840" cy="6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djacent rx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43360" y="3446640"/>
            <a:ext cx="700200" cy="13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70400" y="3241800"/>
            <a:ext cx="1446480" cy="116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Hole Fill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hy should hole filler find things beyond the original genome annotation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verse BLAST searches more sensitiv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verse BLAST searches find second domai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gration of multiple evidence 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Example Pathway</a:t>
            </a:r>
            <a:endParaRPr b="1" i="1" lang="en-US" sz="28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28" name=""/>
          <p:cNvSpPr/>
          <p:nvPr/>
        </p:nvSpPr>
        <p:spPr>
          <a:xfrm>
            <a:off x="3873600" y="2835360"/>
            <a:ext cx="857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ho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6560" y="1803240"/>
            <a:ext cx="179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L-aspart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60640" y="1785960"/>
            <a:ext cx="216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iminoaspart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6000" y="2265480"/>
            <a:ext cx="1795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quinolin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8480" y="3772080"/>
            <a:ext cx="1481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icotinate nucleotid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52560" y="3589200"/>
            <a:ext cx="216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deamido-NA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2040" y="4923000"/>
            <a:ext cx="971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A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20880" y="2011320"/>
            <a:ext cx="104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48240" y="1998720"/>
            <a:ext cx="1420920" cy="301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12040" y="2687760"/>
            <a:ext cx="0" cy="90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4216320" y="3830760"/>
            <a:ext cx="1687680" cy="264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872640" y="3741840"/>
            <a:ext cx="1797120" cy="1113840"/>
            <a:chOff x="872640" y="3741840"/>
            <a:chExt cx="1797120" cy="1113840"/>
          </a:xfrm>
        </p:grpSpPr>
        <p:sp>
          <p:nvSpPr>
            <p:cNvPr id="340" name=""/>
            <p:cNvSpPr/>
            <p:nvPr/>
          </p:nvSpPr>
          <p:spPr>
            <a:xfrm flipH="1">
              <a:off x="1247400" y="3741840"/>
              <a:ext cx="142236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872640" y="4021200"/>
              <a:ext cx="374760" cy="834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238040" y="4027320"/>
            <a:ext cx="1777680" cy="1035000"/>
            <a:chOff x="1238040" y="4027320"/>
            <a:chExt cx="1777680" cy="1035000"/>
          </a:xfrm>
        </p:grpSpPr>
        <p:sp>
          <p:nvSpPr>
            <p:cNvPr id="343" name=""/>
            <p:cNvSpPr/>
            <p:nvPr/>
          </p:nvSpPr>
          <p:spPr>
            <a:xfrm flipH="1">
              <a:off x="2349720" y="4027320"/>
              <a:ext cx="666000" cy="77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38040" y="4802760"/>
              <a:ext cx="1111320" cy="259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820880" y="1593720"/>
            <a:ext cx="1046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1.4.3.-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14680" y="4129200"/>
            <a:ext cx="119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2.7.7.18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3680" y="1606680"/>
            <a:ext cx="25225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omic Sans MS"/>
              </a:rPr>
              <a:t>quinolinate synthetas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nadA (CC2912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43640" y="2935440"/>
            <a:ext cx="27003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omic Sans MS"/>
              </a:rPr>
              <a:t>n.n. pyrophosphorylas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nadC (CC2915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2954160"/>
            <a:ext cx="33670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omic Sans MS"/>
              </a:rPr>
              <a:t>NAD+ synthetase, NH3 -dependen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CC36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35240" y="4622760"/>
            <a:ext cx="1197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6.3.5.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803680" y="3049200"/>
            <a:ext cx="1049040" cy="148428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4338360" y="3189240"/>
            <a:ext cx="623880" cy="70488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73200" y="2109960"/>
            <a:ext cx="1524240" cy="7524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98560" y="1181160"/>
            <a:ext cx="26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CC2913, P=0.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75040" y="4457880"/>
            <a:ext cx="27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CC3431*, P=0.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97200" y="4941720"/>
            <a:ext cx="237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CC3619, P=0.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89400" y="5632560"/>
            <a:ext cx="5538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C2913 L-aspartate oxidase (wrong EC# on rx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C3431 ORF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C3619 put. NAD(+)-synthetase (multidoma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HumanCyc Pathway Hol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ill holes by predicting the probability that a gene has a particular func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135 pathways containing 538 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99 pathways w/ at least 1 missing reac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203 reactions have missing enzym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umanCyc holes filled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o candidates found for 115 of the 203 hol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25 of 88 candidates judged to have strong evidence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6 ORF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9 multifunctional enzym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3 enzymes with different functional assignm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7 enzymes with imprecise functional assignm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oLogic Step 4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redict Oper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edict adjacent genes A and B in same operon based o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tragenic distanc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unctional relatedness of A and B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ests for functional relatednes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and B in same gene functional class (MultiFun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and B in same metabolic pathwa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codes for enzyme in a pathway and B codes for transporter involving a substrate in that pathwa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and B are monomers in same protein complex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rrectly predicts 80% of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E. coli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transcription uni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arks predicted operons with computational evidence cod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38520" y="6324480"/>
            <a:ext cx="3832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Bioinformatic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20:709-17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APIs and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Semantic Inference Lay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PI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eneric Frame Protocol (Lisp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atabase query and update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t-class-all-instances, Get-slot-values, Add-slot-valu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rlCy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avaCy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mantic inference lay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code commonly used queries that compute indirect DB relationship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nes-Of-Pathway, Substrates-Of-Pathwa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ll-Transcription-Factors,  Regulon-Of-Protei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ther Capabiliti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vidence code ontolog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34 codes that can be attached to many object typ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Pacific Symposium on Biocomputing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p190-201  2004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PI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avaCyc, PerlCyc, Lis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xtensive data import/export tool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ort select objects and attributes to column-delimited fil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sy to define Web links from PGDB objec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xtensive user support services through SR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uto-patc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00 pages of documentation available: User’s Guide, Schema, Curator’s Guid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ctive community of contribu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avaCyc, PerlCyc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BML and BioPAX export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Recent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02320" indent="-2023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wo releases per year in Feb and Au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Version 8.0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09120" indent="-202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thway hole fill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02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otein features: schema, query, visualization, edit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02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avigator main menu redesigne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Version 8.5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09120" indent="-202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icensing completely onlin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02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ellular Overview and Omics Viewer Improve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910800" indent="-200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Users can create combined displays of gene expression, proteomics, metabolomics, and reaction flux measurements on the Omics Viewer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10800" indent="-200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rawing speed is improved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10800" indent="-200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bolic pathways in the Overview are now grouped by pathway clas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10800" indent="-200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Zooming of the diagram is supported (desktop version only)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10800" indent="-200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e periplasm and outer membrane have been added to the diagram, as have those proteins present in the periplasm and outer membrane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10800" indent="-200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e layout of the Cellular Overview can be computed completely automatically by PathoLogic in a new PGDB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02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ound stereochemistry supporte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02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pport for JME chemical editor, molfile import/expor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Recent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ersion 9.0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w genome brows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re compact pathway diagra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tivations and termin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fine rationale for MO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verview of Pathway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Developments in Pathway Tools and EcoCy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9320" y="-228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Stone Serif"/>
              </a:rPr>
              <a:t>EcoCyc</a:t>
            </a: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 Project – EcoCyc.or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E.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co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li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En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yc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opedia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odel-Organism Database for 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. col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symbolic theory of 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. col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lectronic review article for 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. col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14120" indent="-223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10,500 literature citations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14120" indent="-2239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3600 protein comment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cks the evolving annotation of the 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. coli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source for microbial genome annot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llaborative development via Interne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ohn Ingraham (UC Davi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ulsen (TIGR) – Transport, flagella, DNA repai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llado (UNAM) -- Regulation of gene express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Keseler, Shearer (SRI) -- Metabolic pathways, cell division, proteases, RN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Karp (SRI) -- Bioinformatic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6248520"/>
            <a:ext cx="87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Nuc. Acids. Res.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33:D334 2005       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ASM News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70:25 2004      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Scienc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293:2040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coCyc Miss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vide a review-level resource on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E. coli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genomics and biochemical network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bine parts list with computable functions of par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ngoing literature-based curation effort for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. coli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gen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rate metabolic pathway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rate transcriptional regulatory networ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ovide a comprehensive, up-to-date collection of data and knowledg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igh-fidelity knowledge representation provides computable inform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inely crafted graphical interface speeds comprehens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vide powerful bioinformatics tools for query, visualization, analysis, and curation of these data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    </a:t>
            </a: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EcoCyc = E.coli Dataset +          </a:t>
            </a: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	</a:t>
            </a: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	</a:t>
            </a: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	</a:t>
            </a:r>
            <a:r>
              <a:rPr b="1" i="1" lang="en-US" sz="2800" spc="-1" strike="noStrike">
                <a:solidFill>
                  <a:srgbClr val="ffcc66"/>
                </a:solidFill>
                <a:latin typeface="Stone Serif"/>
              </a:rPr>
              <a:t>   Pathway/Genome Navigator</a:t>
            </a:r>
            <a:endParaRPr b="1" i="1" lang="en-US" sz="28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41720" y="5486400"/>
            <a:ext cx="170928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s: 4,47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4191120"/>
            <a:ext cx="238428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ins: 4,27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13120" y="2514600"/>
            <a:ext cx="209196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s: 3,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bolic: 8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ort: 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89800" y="1371600"/>
            <a:ext cx="185112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ways: 1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56320" y="2743200"/>
            <a:ext cx="212076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unds: 9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3200" y="1143000"/>
            <a:ext cx="5181480" cy="4876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57800" y="29718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62006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EcoCyc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4876920"/>
            <a:ext cx="1440" cy="436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5638680"/>
            <a:ext cx="441360" cy="1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62720" y="47242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 Regul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ons: 9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 Factors: 1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ters: 10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62720" y="4724280"/>
            <a:ext cx="2209680" cy="1219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657600"/>
            <a:ext cx="1440" cy="43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981080"/>
            <a:ext cx="1440" cy="43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9320" y="3697200"/>
            <a:ext cx="22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tations: 8,9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coCyc Statistic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14400" y="1184400"/>
          <a:ext cx="7834320" cy="54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84400"/>
                    <a:ext cx="7834320" cy="54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ments in Proteins, Pathways,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perons, etc.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828800" y="1447920"/>
          <a:ext cx="632448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47920"/>
                    <a:ext cx="632448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coCyc Statistic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e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ral possible definitions of “metabolic network”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ll biochemical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clude signal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clude transpor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37808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clude macromolecule pathway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720800" indent="-2286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Arial Narro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eactions for which all substrates are small molecul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720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ferred definition: Small-Molecule Metabolis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actions in pathways of small-molecule metabolism plus reactions for which all substrates are small molecul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coCyc Statistics – Version 9.0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bolic network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actions: 925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904 have an associated enzy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09 are used in more than one metabolic pathwa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39 have isozym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nzymes: 87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68 are multifunctiona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450 are monomers; 421 are multimers; 81 are heteromultim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bstrates: 963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coCyc Pathway Length Distribu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04920" y="1828800"/>
          <a:ext cx="8111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111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coCyc Procedur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B updates performed by 5 staff curat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formation gathered from biomedical literatu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rrections submitted by 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E. coli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research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view-level database (knowledge base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 releases per yea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Quality assurance of data and software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valuate database consistency constrai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rform element balancing of rea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un other checking progra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isplay every DB objec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Scientists Served by EcoCy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xperimentalis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. coli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experimentalis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alists working with other microb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f expression dat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utational biologists 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iological research using computational method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nome annot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s part of a set of tools used to annotate the Rhodococcus sp. RHA1 genome”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lobal or systematic studi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ioinformaticis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ining and validation of new bioinformatics algorithm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tabolic enginee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esign of organisms for the production of organic acids, amino acids, ethanol, hydrogen, and solvents “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duc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Model Organism Datab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Bs that describe the genome and other information about an organis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very sequenced organism with an active experimental community requires a MO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tegrate genome data with information about the biochemical and genetic network of the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tegrate literature-based information with computational predic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ed by experts for that organis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 one group can curate all the world’s genom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 workload across a community of experts to create a community resourc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coCyc Accelerates Scienc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utational biology research using EcoCy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icrobial genome annot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tudy topological organization of E. coli metabolic networ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tudy organization of E. coli metabolic enzymes into structural protein famili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tudy phylogentic extent of metabolic pathways and enzymes in all domains of lif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ioinformatics research using EcoCyc as gold standard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 promote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 protein functional linkag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 protein-protein interactions and protein-fusion ev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 protein functions and interac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Stone Serif"/>
              </a:rPr>
              <a:t>MetaCyc: </a:t>
            </a:r>
            <a:r>
              <a:rPr b="1" i="1" lang="en-US" sz="3600" spc="-1" strike="noStrike">
                <a:solidFill>
                  <a:srgbClr val="ff6600"/>
                </a:solidFill>
                <a:latin typeface="Stone Serif"/>
              </a:rPr>
              <a:t>Meta</a:t>
            </a: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bolic En</a:t>
            </a:r>
            <a:r>
              <a:rPr b="1" i="1" lang="en-US" sz="3600" spc="-1" strike="noStrike">
                <a:solidFill>
                  <a:srgbClr val="ff6600"/>
                </a:solidFill>
                <a:latin typeface="Stone Serif"/>
              </a:rPr>
              <a:t>cyc</a:t>
            </a: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lopedia</a:t>
            </a: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nredundant metabolic pathway databa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a representative sample of every experimentally determined metabolic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iterature-based DB with extensive references and commenta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s, reactions, enzymes, substrat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Jointly developed by SRI and Carnegie Institu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53280" y="6248520"/>
            <a:ext cx="52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Nucleic Acids Research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32:D438-442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MetaCyc Cura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B updates by 4 staff cu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formation gathered from biomedical literatur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mphasis on microbial and plant pathway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ore prevalent pathways given higher prior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rator’s Guide lists curation conven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7520" indent="-22752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view-level databas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7520" indent="-22752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our releases per yea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27520" indent="-22752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ality assurance of data and software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aluate database consistency constrai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rform element balancing of reac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un other checking program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play every DB objec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MetaCyc Data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19320" y="98280"/>
            <a:ext cx="6837120" cy="675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5120" y="595440"/>
            <a:ext cx="85442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Stone Serif"/>
              </a:rPr>
              <a:t>BioWarehouse: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Stone Serif"/>
              </a:rPr>
              <a:t>The Bio-SPICE </a:t>
            </a:r>
            <a:r>
              <a:rPr b="1" i="1" lang="en-US" sz="4000" spc="-1" strike="noStrike">
                <a:solidFill>
                  <a:srgbClr val="ffcc66"/>
                </a:solidFill>
                <a:latin typeface="Stone Serif"/>
              </a:rPr>
              <a:t>Bioinformatics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Stone Serif"/>
              </a:rPr>
              <a:t>Database Warehouse</a:t>
            </a:r>
            <a:endParaRPr b="1" i="1" lang="en-US" sz="44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839880" y="2949120"/>
            <a:ext cx="73389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eter D. Karp, Tom J. Lee,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Valerie Wagner, Yannick Pouliot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5133400" y="13360320"/>
            <a:ext cx="5127120" cy="1357560"/>
            <a:chOff x="25133400" y="13360320"/>
            <a:chExt cx="5127120" cy="1357560"/>
          </a:xfrm>
        </p:grpSpPr>
        <p:sp>
          <p:nvSpPr>
            <p:cNvPr id="422" name=""/>
            <p:cNvSpPr/>
            <p:nvPr/>
          </p:nvSpPr>
          <p:spPr>
            <a:xfrm>
              <a:off x="26179200" y="13560840"/>
              <a:ext cx="774360" cy="17172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685640" y="13649040"/>
              <a:ext cx="177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Oracle o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MySQ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133400" y="13446000"/>
              <a:ext cx="600120" cy="85680"/>
            </a:xfrm>
            <a:prstGeom prst="hexagon">
              <a:avLst>
                <a:gd name="adj" fmla="val 175105"/>
                <a:gd name="vf" fmla="val 11547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UniPro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171920" y="13608720"/>
              <a:ext cx="600120" cy="85680"/>
            </a:xfrm>
            <a:prstGeom prst="hexagon">
              <a:avLst>
                <a:gd name="adj" fmla="val 175105"/>
                <a:gd name="vf" fmla="val 11547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ENZYM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1360" y="13795200"/>
              <a:ext cx="600120" cy="85680"/>
            </a:xfrm>
            <a:prstGeom prst="hexagon">
              <a:avLst>
                <a:gd name="adj" fmla="val 175105"/>
                <a:gd name="vf" fmla="val 11547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Genbank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302400" y="13465440"/>
              <a:ext cx="619560" cy="12888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Taxonomy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82480" y="13360320"/>
              <a:ext cx="619560" cy="12888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BioCy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02400" y="13646880"/>
              <a:ext cx="619560" cy="12888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CMR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721360" y="13804560"/>
              <a:ext cx="619560" cy="12888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KEGG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810920" y="13637520"/>
              <a:ext cx="309600" cy="23760"/>
            </a:xfrm>
            <a:prstGeom prst="rightArrow">
              <a:avLst>
                <a:gd name="adj1" fmla="val 50000"/>
                <a:gd name="adj2" fmla="val 325758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234400">
              <a:off x="25772400" y="13527360"/>
              <a:ext cx="309600" cy="23760"/>
            </a:xfrm>
            <a:prstGeom prst="rightArrow">
              <a:avLst>
                <a:gd name="adj1" fmla="val 50000"/>
                <a:gd name="adj2" fmla="val 325758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9222200">
              <a:off x="25810920" y="13752000"/>
              <a:ext cx="290160" cy="23760"/>
            </a:xfrm>
            <a:prstGeom prst="rightArrow">
              <a:avLst>
                <a:gd name="adj1" fmla="val 50000"/>
                <a:gd name="adj2" fmla="val 305303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199360" y="13574520"/>
              <a:ext cx="297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BioWarehous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8364600">
              <a:off x="26605080" y="13493880"/>
              <a:ext cx="290160" cy="23760"/>
            </a:xfrm>
            <a:prstGeom prst="rightArrow">
              <a:avLst>
                <a:gd name="adj1" fmla="val 50000"/>
                <a:gd name="adj2" fmla="val 305303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0800000">
              <a:off x="27089280" y="13642200"/>
              <a:ext cx="290160" cy="23760"/>
            </a:xfrm>
            <a:prstGeom prst="rightArrow">
              <a:avLst>
                <a:gd name="adj1" fmla="val 50000"/>
                <a:gd name="adj2" fmla="val 305303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3908600">
              <a:off x="26733600" y="13739040"/>
              <a:ext cx="71640" cy="9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0800000">
              <a:off x="27069840" y="13565520"/>
              <a:ext cx="290160" cy="23760"/>
            </a:xfrm>
            <a:prstGeom prst="rightArrow">
              <a:avLst>
                <a:gd name="adj1" fmla="val 50000"/>
                <a:gd name="adj2" fmla="val 305303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802720" y="13958280"/>
              <a:ext cx="174240" cy="38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11880" y="13761720"/>
              <a:ext cx="32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= Java-based Lo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152480" y="13962960"/>
              <a:ext cx="154800" cy="28440"/>
            </a:xfrm>
            <a:prstGeom prst="hexagon">
              <a:avLst>
                <a:gd name="adj" fmla="val 136076"/>
                <a:gd name="vf" fmla="val 11547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343640" y="13762080"/>
              <a:ext cx="279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= C-based Lo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043520" y="4813200"/>
            <a:ext cx="1157040" cy="77328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34240" y="502920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[Orac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MySQL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79680" y="4406760"/>
            <a:ext cx="896760" cy="327240"/>
          </a:xfrm>
          <a:prstGeom prst="hexagon">
            <a:avLst>
              <a:gd name="adj" fmla="val 68509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UniPr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73200" y="5022720"/>
            <a:ext cx="962280" cy="325440"/>
          </a:xfrm>
          <a:prstGeom prst="hexagon">
            <a:avLst>
              <a:gd name="adj" fmla="val 73921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ENZY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67160" y="5627520"/>
            <a:ext cx="896760" cy="325440"/>
          </a:xfrm>
          <a:prstGeom prst="hexagon">
            <a:avLst>
              <a:gd name="adj" fmla="val 68888"/>
              <a:gd name="vf" fmla="val 11547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22840" y="4594320"/>
            <a:ext cx="1000080" cy="547560"/>
          </a:xfrm>
          <a:prstGeom prst="diamond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Taxono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95960" y="4124160"/>
            <a:ext cx="927000" cy="489240"/>
          </a:xfrm>
          <a:prstGeom prst="diamond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BioCy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22840" y="5281560"/>
            <a:ext cx="925560" cy="488880"/>
          </a:xfrm>
          <a:prstGeom prst="diamond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M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83360" y="5765760"/>
            <a:ext cx="925200" cy="488880"/>
          </a:xfrm>
          <a:prstGeom prst="diamond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KEG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92360" y="5130720"/>
            <a:ext cx="463680" cy="92160"/>
          </a:xfrm>
          <a:prstGeom prst="rightArrow">
            <a:avLst>
              <a:gd name="adj1" fmla="val 50000"/>
              <a:gd name="adj2" fmla="val 125781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2234400">
            <a:off x="3435120" y="4714560"/>
            <a:ext cx="463320" cy="90360"/>
          </a:xfrm>
          <a:prstGeom prst="rightArrow">
            <a:avLst>
              <a:gd name="adj1" fmla="val 50000"/>
              <a:gd name="adj2" fmla="val 12818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9222200">
            <a:off x="3492000" y="5565240"/>
            <a:ext cx="435240" cy="90720"/>
          </a:xfrm>
          <a:prstGeom prst="rightArrow">
            <a:avLst>
              <a:gd name="adj1" fmla="val 50000"/>
              <a:gd name="adj2" fmla="val 11994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75840" y="48340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BioWareho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8364600">
            <a:off x="5180040" y="4630680"/>
            <a:ext cx="434880" cy="90720"/>
          </a:xfrm>
          <a:prstGeom prst="rightArrow">
            <a:avLst>
              <a:gd name="adj1" fmla="val 50000"/>
              <a:gd name="adj2" fmla="val 119841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0800000">
            <a:off x="5261040" y="5263920"/>
            <a:ext cx="434880" cy="90360"/>
          </a:xfrm>
          <a:prstGeom prst="rightArrow">
            <a:avLst>
              <a:gd name="adj1" fmla="val 50000"/>
              <a:gd name="adj2" fmla="val 120319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0800000">
            <a:off x="5275080" y="4973400"/>
            <a:ext cx="433080" cy="90360"/>
          </a:xfrm>
          <a:prstGeom prst="rightArrow">
            <a:avLst>
              <a:gd name="adj1" fmla="val 50000"/>
              <a:gd name="adj2" fmla="val 119821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 rot="13235400">
            <a:off x="5134680" y="5667840"/>
            <a:ext cx="435240" cy="90360"/>
          </a:xfrm>
          <a:prstGeom prst="rightArrow">
            <a:avLst>
              <a:gd name="adj1" fmla="val 50000"/>
              <a:gd name="adj2" fmla="val 120418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Technical Approach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96680" y="1012680"/>
            <a:ext cx="7924680" cy="508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ulti-platform support: Oracle (10G) and MySQL (3.23.58 )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chema support for multitude of bioinformatics datatyp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reate loaders for public bioinformatics DB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rse file format of the source DB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mantic transform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sert DB contents into warehouse tabl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vide Warehouse query access mechanism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QL queries via ODBC, JDBC, OA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41040" y="289080"/>
            <a:ext cx="7637400" cy="59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Stone Serif"/>
              </a:rPr>
              <a:t>BioWarehouse Loaders</a:t>
            </a:r>
            <a:endParaRPr b="1" i="1" lang="en-US" sz="2400" spc="-1" strike="noStrike">
              <a:solidFill>
                <a:srgbClr val="ffcc66"/>
              </a:solidFill>
              <a:latin typeface="Stone Serif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22320" y="1047600"/>
          <a:ext cx="7277040" cy="4510080"/>
        </p:xfrm>
        <a:graphic>
          <a:graphicData uri="http://schemas.openxmlformats.org/drawingml/2006/table">
            <a:tbl>
              <a:tblPr/>
              <a:tblGrid>
                <a:gridCol w="2071800"/>
                <a:gridCol w="990360"/>
                <a:gridCol w="4214880"/>
              </a:tblGrid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Load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Data Se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genbank-loa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JA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All bacterial sequences in the GenBank D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uniprot-loa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JA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Swiss-Prot and TrEMBL protein DBs (XML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biocyc-loa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BioCyc open PGDBs (e.g., </a:t>
                      </a:r>
                      <a:r>
                        <a:rPr b="1" i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B. anthracis</a:t>
                      </a: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i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 M. tuberculosis</a:t>
                      </a: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i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 V. cholerae</a:t>
                      </a: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cmr-loa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TIGR's Comprehensive Microbial Resource (CMR) DB of bacterial da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enumerations-loa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JA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BioWarehouse’s controlled nomenclat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ncbi-taxonomy-loa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NCBI's Taxonomy DB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enzyme-loa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JA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ENZYME DB of enzymatic reaction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KEGG-loa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KEGG DB of pathway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Miami-expre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PER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cc66"/>
                          </a:solidFill>
                          <a:latin typeface="Times New Roman"/>
                          <a:ea typeface="Times New Roman"/>
                        </a:rPr>
                        <a:t>Loads microarray gene expression data in MIAMI forma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25520" y="1998720"/>
            <a:ext cx="333360" cy="142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25520" y="1562040"/>
            <a:ext cx="333360" cy="1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Summary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/Genome Datab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etaCyc non-redundant DB of literature-derived pathway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65 organism-specific PGDBs available through SRI at BioCyc.or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utational theories of biochemical machiner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 Tools softwar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tract pathways from genom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orph annotated genome into structured ontolog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istributed curation tools for MO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Query, visualization, WWW publish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BioCyc and Pathway Tools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vailability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WW BioCyc freely available to al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7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ioCyc.or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st BioCyc DBs openly avail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latfiles downloadable from BioCyc.or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 Tools freely available to non-profi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C/Windows, PC/Linux, SU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R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zanne Paley, Michelle Green, Ron Caspi, Ingrid Keseler, John Pick, Carol Fulcher, Markus Krummenacker, Alex Shear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coCyc Project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ulio Collado-Vides, John Ingraham, Ian Pauls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taCyc Project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e Rhee, Peifen Zhang, Hartmut Foers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arley McAdam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29200" y="1218960"/>
            <a:ext cx="3772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nding source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IH National Center for Research Resourc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IH National Institute of General Medical Scienc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IH National Human Genome Research Institu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partment of Energy Microbial Cell Projec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ARPA BioSpice, UP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594360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ationale for MOD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“complete” genome is incomplete in several respect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40%-60% of genes have no assigned func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oughly 7% of those assigned functions are incorrec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ny assigned functions are non-specific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ed continuous updating of annotations with respect to new experimental data and computational predi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ne positions, sequence, gene functions, regulatory sites, pathway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ODs are platforms for global analyses of an organis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terpret omics data in a pathway contex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In silico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prediction of essential gen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haracterize systems properties of metabolic and genetic network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otential MOD Autho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quencing center that sequenced geno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perimentalists that work with that organis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biologists who want to perform global and/or comparative analy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BioCyc Collection of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ioCyc Open Chemical Databa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18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145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43680" y="1781280"/>
            <a:ext cx="3771720" cy="42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BioCyc Tier 3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145 PGDB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30 prokaryotic PGDBs created by SR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ource: CMR databas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5 prokaryotic and eukaryotic PGDBs created by EB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ource: UniPro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utomated processing by PathoLog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 predic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peron prediction (bacteria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eter Karp</dc:creator>
  <dc:description/>
  <dc:language>en-US</dc:language>
  <cp:lastModifiedBy>Peter Karp</cp:lastModifiedBy>
  <cp:lastPrinted>2000-01-10T21:27:38Z</cp:lastPrinted>
  <dcterms:modified xsi:type="dcterms:W3CDTF">2005-05-20T04:18:28Z</dcterms:modified>
  <cp:revision>806</cp:revision>
  <dc:subject/>
  <dc:title>BioCyc</dc:title>
</cp:coreProperties>
</file>